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E69-0321-4F76-B22A-053C2830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B18-AB67-479E-9522-FE65797C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6CA-BEE7-4FCE-A3E9-348C7140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832-ED86-4BEB-801F-800B0C49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9DC-95F0-4AEC-ABC7-A35B62E5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98C-302D-4DB4-9ACC-FA1DB356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0A5-C617-4D8E-B8E7-686BA6AD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A31-ED46-4A0D-A10D-63516502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9E2-28F6-4B8A-89D7-C45D73BE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451-CF0D-4311-A309-0139914B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81B-BFF5-4F4E-B5D3-4F0F6113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D9F-A360-44A7-B33C-30AC535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0C64-374D-4DEF-AA59-18BDFA6B0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icle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class newsletters, reading passages, sports highlight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016000"/>
            <a:ext cx="9144000" cy="484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81080" y="3200400"/>
            <a:ext cx="99072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514600"/>
            <a:ext cx="83808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Article Libra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984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3581280"/>
            <a:ext cx="144792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your p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x. Newslett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3429000"/>
            <a:ext cx="838080" cy="685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the page from your page 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220320" cy="5262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5029200"/>
            <a:ext cx="16002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4876920"/>
            <a:ext cx="25146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Artic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40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27360" y="3043080"/>
            <a:ext cx="1371600" cy="53028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this article, and enter teaser text, an image, and the start/end date for the article, then click “Nex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36800"/>
            <a:ext cx="9296280" cy="4921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3276720"/>
            <a:ext cx="7621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657600"/>
            <a:ext cx="7617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4191120"/>
            <a:ext cx="7621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71500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 and paste or type your article in the text box, then click “Save”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19320" y="3581280"/>
            <a:ext cx="1828800" cy="99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410080"/>
            <a:ext cx="609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666880"/>
            <a:ext cx="304920" cy="38124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1:04:41Z</dcterms:created>
  <dc:creator>%$#@1</dc:creator>
  <dc:description/>
  <dc:language>en-US</dc:language>
  <cp:lastModifiedBy>%$#@1</cp:lastModifiedBy>
  <dcterms:modified xsi:type="dcterms:W3CDTF">2010-04-27T01:04:56Z</dcterms:modified>
  <cp:revision>2</cp:revision>
  <dc:subject/>
  <dc:title>Article Library</dc:title>
</cp:coreProperties>
</file>